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327C-A87B-4254-A5E4-A3EA9F20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209-75B3-4A03-993E-C1A5D59F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487B-8E79-4EEA-A8EC-13E903EA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9EB5-87B5-4E12-904F-C8086787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A153-78FD-4C1D-8054-64E78B74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93CC-671A-4FA5-9E91-3EDF17BF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8FC-CDB4-4AE0-81CC-D4AFFFE9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2B6-F12E-4905-A333-5AD5433D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86D-66ED-41F1-86FD-F468C423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B14-625B-4346-9ABB-A46FB076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CD0-9A90-4159-B6DD-E5A85C3D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3A6-1E4C-4626-BA54-F82088F8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ED37-7A5B-4BFC-8DB3-56FF6CF64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4648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Petit Agneau s’installe près du feu, mais soud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4952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C! TOC! TO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ette foi-ci, c’est s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  <a:ea typeface="Arial"/>
              </a:rPr>
              <a:t>ûrement LE LOU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90960" y="15238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’est moi, Petit Chaperon Rou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Je t’apporte des galettes et un petit pot de beur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90960" y="32004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’est moi, Petit Chaperon Rou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Jee t’apporte des galettes et un petit pot de beur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5409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Les amis se mettent à table quand soud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4267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BOUM! BOUM! BOU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’etait un très grande bou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5146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’est LE LOUP! Il a très très fa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Mais à piene le loup a-t-il fait un lapin, cochons, chèvre chevreaux, agneau, Pierre et Chaperon rouge rouge se jettent sur l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e soir, monsieur Lapin a peur d’aller se couc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Il vient de lire dans son journal une nouvelle terrifiante! LE LOUP EST REVEN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LOUP, NOUN N’AVONS PLUS PEUR DE TO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Mais si tu promets d’être gentil et de nous raconter des histiores de loup qui font peur, alors, nous t’invitons à d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  <a:ea typeface="Arial"/>
              </a:rPr>
              <a:t>îner avec n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t c’est ainsi que soir-là, autour d’une table bien garnie, chez monsieur Lap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 LOUP EST REVEN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.What is the main person’s na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onsieur la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. Who visits him fir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he three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3. Who did he think it w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he wo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4. How many kids does madame chevre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5. Who brings butter o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haperon 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4876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Monsieur Lapin fermer la porte à double tour quand soud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C! TOC! TOC! C’est le loup!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Entrez, mes amis, entrez,” leur dit monsieur Lapin, soulag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010280" y="1523880"/>
            <a:ext cx="2438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C! TOC! TO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Aïe, aïe, aïe! Voici le Lou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4876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’est moi, madame Chèvre avec mes sept petits chrevrea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Entre ma bonne am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29040" y="327672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ut la famille s’installe et soud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C! TOC! TO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Est-ce LE LOUP qui frappe de la sort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556272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C’est moi Petit Agneau. J’ètais en bas près du ruisseau. Le Loup est Reven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06:48Z</dcterms:created>
  <dc:creator>CVJH-LAB</dc:creator>
  <dc:description/>
  <dc:language>en-US</dc:language>
  <cp:lastModifiedBy>nield411</cp:lastModifiedBy>
  <dcterms:modified xsi:type="dcterms:W3CDTF">2008-02-23T22:32:10Z</dcterms:modified>
  <cp:revision>10</cp:revision>
  <dc:subject/>
  <dc:title>Slide 1</dc:title>
</cp:coreProperties>
</file>